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AB8C9-EF20-4521-8F6F-FE73CF4EA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0B87E-1644-4E3A-8CB2-BFBF8693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E1A55-79ED-4061-8185-E1A929CB1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CC8A3-14E7-4070-90BB-33B2E41CC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A4D94-4956-463F-8616-DBD10F642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6204-DD41-49C5-AADD-DAFAF50A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DAC8-3B45-42DA-8D4D-E2638D80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6C4C-9481-4CD4-ADE5-E05BD615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4A68-F525-4F54-B604-791092ED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6418-63FC-4860-B61D-099AB3FE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9EF4-68E7-4843-8018-41206DB5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29DDD-A250-4181-906E-EF8E6216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E00BD-0A0C-44E6-8D7F-9FFBE352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BCD7A-CDE2-4A48-933F-3FE4797C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34F6-3CF9-49B3-89D7-E47716F9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DFCF-4BD5-4ABB-AB31-FC918A52C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4597-07F1-44A7-A872-D653E1575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D26BB-ABAF-4141-9385-4D1DD885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CB79B-8E7D-419B-96C1-55843620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77D7B-5C54-41D8-B5D1-83393CD4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BDCF2-EA10-4C89-80BB-F5E94990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71B26-44C2-4A64-BFA5-89EBFB19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486DC-DBDF-432D-B07E-AC816639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F8A0D-39AB-4C28-94BC-63A93FEA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2369-F36C-4952-9146-2E1AEC7079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FE43-EF2D-4294-AAD7-DE8FFD0DF0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440" y="1828800"/>
            <a:ext cx="7162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Petrolul mi</a:t>
            </a:r>
            <a:r>
              <a:rPr b="0" lang="ro-RO" sz="5000" spc="-1" strike="noStrike">
                <a:solidFill>
                  <a:srgbClr val="ffffff"/>
                </a:solidFill>
                <a:latin typeface="Arial"/>
              </a:rPr>
              <a:t>şcă omenirea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-  motoare termi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3049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lasa a X a A s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5334120"/>
            <a:ext cx="845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* Citiţi întrebările care vor urma, scrieţi răspunsurile voastre în coloanele corespunzătoare ale tabeluluicare urmează iar când terminaţi, faceţi o sinteză a acestora, apoi completaţi tabelul pe calculato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are sunt combustibilii fosil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ntru ce sunt folosiţi combustibili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uteţi da exemple de motoare term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um funcţionează motorul term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e ce depinde funcţionarea unui motor term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âte tipuri de motoare termice exist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are este cel mai mare defect al motoarelor termic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038480" y="457200"/>
            <a:ext cx="1498680" cy="1123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2057400" cy="1147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934320" y="380880"/>
            <a:ext cx="14983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Vă rog să desenaţi pe foaie tabelul de mai j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371600"/>
          <a:ext cx="8229600" cy="4114440"/>
        </p:xfrm>
        <a:graphic>
          <a:graphicData uri="http://schemas.openxmlformats.org/drawingml/2006/table">
            <a:tbl>
              <a:tblPr/>
              <a:tblGrid>
                <a:gridCol w="838080"/>
                <a:gridCol w="2514600"/>
                <a:gridCol w="2590920"/>
                <a:gridCol w="2286000"/>
              </a:tblGrid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au să 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învăţ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ce sunt folosi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ţi combustibil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ul de la maşin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şi de la autobu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sunt combustibilii fosi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 funcţionează motor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ce depinde funcţionarea motorulu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âte feluri exist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defecte au motoare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sunt combustibili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ce sunt folosi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ţi combustibil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 se dilată gazele când sunt încălz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 se face lucru mecanic când încălzim ga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457200" y="57913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a ultima coloană veţi răspunde la sfârşitul proiectulu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Continu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371600"/>
          <a:ext cx="8229600" cy="4114440"/>
        </p:xfrm>
        <a:graphic>
          <a:graphicData uri="http://schemas.openxmlformats.org/drawingml/2006/table">
            <a:tbl>
              <a:tblPr/>
              <a:tblGrid>
                <a:gridCol w="838080"/>
                <a:gridCol w="2514600"/>
                <a:gridCol w="2590920"/>
                <a:gridCol w="2286000"/>
              </a:tblGrid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au să 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învăţ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457200" y="57913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a ultima coloană veţi răspunde la sfârşitul proiectulu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11:36:28Z</dcterms:created>
  <dc:creator>elev</dc:creator>
  <dc:description/>
  <dc:language>en-US</dc:language>
  <cp:lastModifiedBy>user</cp:lastModifiedBy>
  <dcterms:modified xsi:type="dcterms:W3CDTF">2010-06-03T09:10:32Z</dcterms:modified>
  <cp:revision>7</cp:revision>
  <dc:subject/>
  <dc:title>Petrolul mişcă omenirea</dc:title>
</cp:coreProperties>
</file>